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189F-18AE-4BD5-8DD2-76C624CC5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F4E2-14B2-426A-9986-91975661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142D-EBC8-42B9-8645-1F3AA6625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6A4C-017F-4CB5-A40B-FA119D503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0858-11B8-4811-BF4B-E5678974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1FE0-D879-4D40-8AAE-00DFDF70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B8F6-6B05-41B4-BB98-5072846D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160E-C1C1-4206-A653-8ED013D3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ACBE-948B-4A5C-83E6-6C600DEA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ADC7-AC7C-470F-AFD8-4D300083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B972-DFDD-4680-9307-D42D746C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575F-32F0-4969-8A52-AAB0EEF8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Studiedag 22 april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0A22-F75A-449E-98B2-B405AD1D1F08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Egmond aan Zee, 17 januari 20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68280"/>
            <a:ext cx="7772400" cy="13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imes New Roman"/>
              </a:rPr>
              <a:t>Een mazelenepidemie en de vaccinatiegraad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5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René West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Modelleerdeskundi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Groningen/ Köpingsvi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Afbeelding 8" descr=""/>
          <p:cNvPicPr/>
          <p:nvPr/>
        </p:nvPicPr>
        <p:blipFill>
          <a:blip r:embed="rId1"/>
          <a:stretch/>
        </p:blipFill>
        <p:spPr>
          <a:xfrm>
            <a:off x="2511360" y="152280"/>
            <a:ext cx="313380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imes New Roman"/>
              </a:rPr>
              <a:t>Coach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8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Egmond aan Zee, 17 januari 20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Minder wiskun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ynamis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Aan de slag met een mazelen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imes New Roman"/>
              </a:rPr>
              <a:t>Coach in Egmond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1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Egmond aan Zee, 17 januari 20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Een zeemodel: mosselgroe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Een duinmodel: populatiedynamiek konijn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Egmond aan Zee, 17 januari 20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imes New Roman"/>
              </a:rPr>
              <a:t>Afsluiting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rag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Reflectie: voor- en nadelen modell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Mazelenmodel bruikbaar in de klas, b.v. over de waarde van de hoogte van de vaccinatiegraa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dankt voor de aandach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Egmond aan Zee, 17 januari 20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6842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imes New Roman"/>
              </a:rPr>
              <a:t>Overzich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06344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Inlei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Enkele opmerkingen over mazele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Modellen en hun waar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Coach: inlei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Zelf aan de slag in tweetalle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met een mazelen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Ervaringen uitwissel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Twee duin- en zeemodell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Evaluatie en afslui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Picture 9" descr="Mazelen peuter kleuter"/>
          <p:cNvPicPr/>
          <p:nvPr/>
        </p:nvPicPr>
        <p:blipFill>
          <a:blip r:embed="rId1"/>
          <a:stretch/>
        </p:blipFill>
        <p:spPr>
          <a:xfrm>
            <a:off x="5148360" y="3716280"/>
            <a:ext cx="381636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imes New Roman"/>
              </a:rPr>
              <a:t>Enkele opmerkingen over mazele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50" name="Tijdelijke aanduiding voor inhoud 2" descr=""/>
          <p:cNvPicPr/>
          <p:nvPr/>
        </p:nvPicPr>
        <p:blipFill>
          <a:blip r:embed="rId1"/>
          <a:stretch/>
        </p:blipFill>
        <p:spPr>
          <a:xfrm>
            <a:off x="2987640" y="1940040"/>
            <a:ext cx="2933640" cy="4114800"/>
          </a:xfrm>
          <a:prstGeom prst="rect">
            <a:avLst/>
          </a:prstGeom>
          <a:ln w="0">
            <a:noFill/>
          </a:ln>
        </p:spPr>
      </p:pic>
      <p:sp>
        <p:nvSpPr>
          <p:cNvPr id="51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Egmond aan Zee, 17 januari 20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imes New Roman"/>
              </a:rPr>
              <a:t>Enkele opmerkingen over mazelen en vaccinati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arl Popper: Immuniz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against refu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iscussies 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organisatieniveau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Egmond aan Zee,  17 januari 20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Picture 8" descr="Afbeeldingsresultaat voor karl popper"/>
          <p:cNvPicPr/>
          <p:nvPr/>
        </p:nvPicPr>
        <p:blipFill>
          <a:blip r:embed="rId1"/>
          <a:stretch/>
        </p:blipFill>
        <p:spPr>
          <a:xfrm>
            <a:off x="696960" y="37162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56" name="Afbeelding 1" descr=""/>
          <p:cNvPicPr/>
          <p:nvPr/>
        </p:nvPicPr>
        <p:blipFill>
          <a:blip r:embed="rId2"/>
          <a:stretch/>
        </p:blipFill>
        <p:spPr>
          <a:xfrm>
            <a:off x="6156360" y="1932120"/>
            <a:ext cx="27367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6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imes New Roman"/>
              </a:rPr>
              <a:t>Modellen: Kermack-McKendrick</a:t>
            </a:r>
            <a:br>
              <a:rPr sz="4400"/>
            </a:br>
            <a:r>
              <a:rPr b="0" lang="nl-NL" sz="4400" spc="-1" strike="noStrike">
                <a:solidFill>
                  <a:srgbClr val="ccffff"/>
                </a:solidFill>
                <a:latin typeface="Times New Roman"/>
              </a:rPr>
              <a:t>SIR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1927-1970-200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Egmond aan Zee, 17 januari 20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Afbeelding 1" descr=""/>
          <p:cNvPicPr/>
          <p:nvPr/>
        </p:nvPicPr>
        <p:blipFill>
          <a:blip r:embed="rId1"/>
          <a:stretch/>
        </p:blipFill>
        <p:spPr>
          <a:xfrm>
            <a:off x="2340000" y="2801880"/>
            <a:ext cx="4462560" cy="32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cffff"/>
                </a:solidFill>
                <a:latin typeface="Times New Roman"/>
              </a:rPr>
              <a:t>Modellen: oei, wiskunde!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evolutie keert niet op haar schreden terug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Egmond aan Zee, 17 januari 20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Afbeelding 1" descr=""/>
          <p:cNvPicPr/>
          <p:nvPr/>
        </p:nvPicPr>
        <p:blipFill>
          <a:blip r:embed="rId1"/>
          <a:stretch/>
        </p:blipFill>
        <p:spPr>
          <a:xfrm>
            <a:off x="685800" y="1758960"/>
            <a:ext cx="73501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cffff"/>
                </a:solidFill>
                <a:latin typeface="Times New Roman"/>
              </a:rPr>
              <a:t>Modellen: beperkingen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042920" y="1730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eenvoudiging van de werkelijkhei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trouwbaarhei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aliditei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Egmond aan Zee, 17 januari 20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Picture 4" descr="Afbeeldingsresultaat voor boeren rivm"/>
          <p:cNvPicPr/>
          <p:nvPr/>
        </p:nvPicPr>
        <p:blipFill>
          <a:blip r:embed="rId1"/>
          <a:stretch/>
        </p:blipFill>
        <p:spPr>
          <a:xfrm>
            <a:off x="539640" y="3836880"/>
            <a:ext cx="3370320" cy="2243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Afbeeldingsresultaat voor mkz kootwijkerbroek"/>
          <p:cNvPicPr/>
          <p:nvPr/>
        </p:nvPicPr>
        <p:blipFill>
          <a:blip r:embed="rId2"/>
          <a:stretch/>
        </p:blipFill>
        <p:spPr>
          <a:xfrm>
            <a:off x="4788000" y="3836880"/>
            <a:ext cx="388944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cffff"/>
                </a:solidFill>
                <a:latin typeface="Times New Roman"/>
              </a:rPr>
              <a:t>Modellen: beperkingen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042920" y="1730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eenvoudiging van de werkelijkhei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Homogene versus heterogene versprei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Egmond aan Zee, 17 januari 20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imes New Roman"/>
              </a:rPr>
              <a:t>Modellen: beperkingen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74" name="Tijdelijke aanduiding voor inhoud 5" descr=""/>
          <p:cNvPicPr/>
          <p:nvPr/>
        </p:nvPicPr>
        <p:blipFill>
          <a:blip r:embed="rId1"/>
          <a:stretch/>
        </p:blipFill>
        <p:spPr>
          <a:xfrm>
            <a:off x="250920" y="1698480"/>
            <a:ext cx="4460760" cy="4405320"/>
          </a:xfrm>
          <a:prstGeom prst="rect">
            <a:avLst/>
          </a:prstGeom>
          <a:ln w="0">
            <a:noFill/>
          </a:ln>
        </p:spPr>
      </p:pic>
      <p:sp>
        <p:nvSpPr>
          <p:cNvPr id="75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Egmond aan Zee, 17 januari 20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Picture 2" descr="Afbeeldingsresultaat voor mazelen vaccinatiegraad"/>
          <p:cNvPicPr/>
          <p:nvPr/>
        </p:nvPicPr>
        <p:blipFill>
          <a:blip r:embed="rId2"/>
          <a:stretch/>
        </p:blipFill>
        <p:spPr>
          <a:xfrm>
            <a:off x="4743360" y="1698480"/>
            <a:ext cx="414972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2:59:31Z</dcterms:created>
  <dc:creator>Rene Westra</dc:creator>
  <dc:description/>
  <dc:language>en-US</dc:language>
  <cp:lastModifiedBy>René Westra</cp:lastModifiedBy>
  <dcterms:modified xsi:type="dcterms:W3CDTF">2020-01-16T19:53:41Z</dcterms:modified>
  <cp:revision>52</cp:revision>
  <dc:subject/>
  <dc:title>Toetsen op het PCC</dc:title>
</cp:coreProperties>
</file>